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C84F-5457-4DE1-867F-B7D5E6B6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chool’s inventory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cedure separate Perkins-purchased items from oth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Perkins-purchased items tracked?  Are they tag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equipment located where it is suppo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cedure is used to dispose of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 needs to facilitate disposition of any equipment funded with Perk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size, scope and quality requirements of Perkins IV, I recommend the following.  We all need to have the same answer if someone asks what they are.  This is the ideal that programs should work towards.  Obviously, not all programs will have all of the quality items but it should be the goal to work towards the majority of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nd Scope</a:t>
            </a:r>
            <a:r>
              <a:rPr b="0" lang="en-US" sz="1200" spc="-1" strike="noStrike">
                <a:solidFill>
                  <a:srgbClr val="000000"/>
                </a:solidFill>
                <a:latin typeface="Arial"/>
              </a:rPr>
              <a:t>:  Program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redits offer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courses are in the programs'  sequence of cour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r>
              <a:rPr b="0" lang="en-US" sz="1200" spc="-1" strike="noStrike">
                <a:solidFill>
                  <a:srgbClr val="000000"/>
                </a:solidFill>
                <a:latin typeface="Arial"/>
              </a:rPr>
              <a:t>:  PIP &amp; course syllabi submitted to OCT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standards aligned with career clusters core standar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based learning included in cours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syllabi with integrated academic and technical knowledge and skill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ased experience (job shadow, internship, etc.)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of  technolog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ssess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recognized certificate, license, credential, if availab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to postsecondary alignment, including dual credit/enrollment and/or articula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equip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BD44-BDCC-492D-A89B-41E04B77B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EE91F-3CDF-46C8-8C1F-2648C8C23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E6498-ED6B-4737-988E-2B68496F8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1C4F3-CFB2-4189-B992-EB969EDDF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E6CB4-D2E1-4418-BF2C-962845E54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3D775-0DAF-44D7-ACFD-1E2E3FB35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E81B8-7807-4577-A47E-CE576C7FA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A2F5A-697C-4AE1-9C3C-2180A4EB5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C32ED-2DB1-45C7-AC16-C92F3BE9A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89784-8B36-43FD-9BFB-8036685F5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58694-C18C-4040-859B-21487678C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FBB5-8B96-42AC-A8C0-523DEA16D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B3C2-C723-4B5E-9514-56CF24CF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BE63C-4B0F-46FB-98E6-73A9E4C66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5143D-5FA8-4929-9C26-8352638A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497F9-26F4-4F07-8AB3-38A8DDAF6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69E1B-D38F-4DC8-9381-B95304859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E1A9-6F8C-4676-99B8-BDC76234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52716-830A-41D0-B55A-466205FE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2846-C65B-4ECA-AA4C-2303DCB0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33BF-44C7-4F77-A80E-406525E8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9349-4276-4BDF-813D-63CE9968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D906-DC9A-45B6-A0C1-335CE849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FCD3-E153-45EB-A907-14E8454BC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B7B8-71EF-4BBD-AAEB-F5C41805E7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15FD-FCA1-4EED-BCC1-DBFA34B38C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437920"/>
            <a:ext cx="8686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Program Improvement Process </a:t>
            </a:r>
            <a:endParaRPr b="1" lang="en-US" sz="30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
          <p:cNvSpPr/>
          <p:nvPr/>
        </p:nvSpPr>
        <p:spPr>
          <a:xfrm>
            <a:off x="3584880" y="3276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2009-2010</a:t>
            </a:r>
            <a:endParaRPr b="0" lang="en-US" sz="1800" spc="-1" strike="noStrike">
              <a:solidFill>
                <a:srgbClr val="000000"/>
              </a:solidFill>
              <a:latin typeface="Arial"/>
            </a:endParaRPr>
          </a:p>
        </p:txBody>
      </p:sp>
      <p:sp>
        <p:nvSpPr>
          <p:cNvPr id="158" name=""/>
          <p:cNvSpPr/>
          <p:nvPr/>
        </p:nvSpPr>
        <p:spPr>
          <a:xfrm>
            <a:off x="228600" y="624852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Curriculum, Career &amp; Technical Education</a:t>
            </a:r>
            <a:endParaRPr b="0" lang="en-US" sz="1400" spc="-1" strike="noStrike">
              <a:solidFill>
                <a:srgbClr val="000000"/>
              </a:solidFill>
              <a:latin typeface="Arial"/>
            </a:endParaRPr>
          </a:p>
        </p:txBody>
      </p:sp>
      <p:graphicFrame>
        <p:nvGraphicFramePr>
          <p:cNvPr id="159" name=""/>
          <p:cNvGraphicFramePr/>
          <p:nvPr/>
        </p:nvGraphicFramePr>
        <p:xfrm>
          <a:off x="228600" y="5638680"/>
          <a:ext cx="2286000" cy="573120"/>
        </p:xfrm>
        <a:graphic>
          <a:graphicData uri="http://schemas.openxmlformats.org/presentationml/2006/ole">
            <p:oleObj r:id="rId1" spid="">
              <p:embed/>
              <p:pic>
                <p:nvPicPr>
                  <p:cNvPr id="160" name="" descr=""/>
                  <p:cNvPicPr/>
                  <p:nvPr/>
                </p:nvPicPr>
                <p:blipFill>
                  <a:blip r:embed="rId2"/>
                  <a:stretch/>
                </p:blipFill>
                <p:spPr>
                  <a:xfrm>
                    <a:off x="228600" y="5638680"/>
                    <a:ext cx="2286000" cy="573120"/>
                  </a:xfrm>
                  <a:prstGeom prst="rect">
                    <a:avLst/>
                  </a:prstGeom>
                  <a:ln w="0">
                    <a:noFill/>
                  </a:ln>
                </p:spPr>
              </p:pic>
            </p:oleObj>
          </a:graphicData>
        </a:graphic>
      </p:graphicFrame>
      <p:sp>
        <p:nvSpPr>
          <p:cNvPr id="4" name="PlaceHolder 3"/>
          <p:cNvSpPr>
            <a:spLocks noGrp="1"/>
          </p:cNvSpPr>
          <p:nvPr>
            <p:ph type="sldNum" idx="3"/>
          </p:nvPr>
        </p:nvSpPr>
        <p:spPr/>
        <p:txBody>
          <a:bodyPr/>
          <a:p>
            <a:fld id="{B7629414-EAB6-429C-950A-4CDFCD0BD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 Now What?</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we do with the data?</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advisory committe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 with administratio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core content teach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 strategies for improvement</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program improvement goal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 budget to help achieve goal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recruiting strategi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rigor</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hink course offerings and content</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C0EA14F-AC63-4E01-9D01-0B4222E39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roved Program Application</a:t>
            </a:r>
            <a:endParaRPr b="1" lang="en-US" sz="3900" spc="-1" strike="noStrike">
              <a:solidFill>
                <a:srgbClr val="330066"/>
              </a:solidFill>
              <a:latin typeface="Arial"/>
            </a:endParaRPr>
          </a:p>
        </p:txBody>
      </p:sp>
      <p:sp>
        <p:nvSpPr>
          <p:cNvPr id="203" name="PlaceHolder 2"/>
          <p:cNvSpPr>
            <a:spLocks noGrp="1"/>
          </p:cNvSpPr>
          <p:nvPr>
            <p:ph/>
          </p:nvPr>
        </p:nvSpPr>
        <p:spPr>
          <a:xfrm>
            <a:off x="456840" y="1904760"/>
            <a:ext cx="8458200" cy="4530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Program of Study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utilize Career Cluster course codes/titl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ademic courses on application means you are implementing concepts &amp; will report students for academic classes fo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e in Sp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may have more than one Cluster Progra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3BCE2B9-CB55-4234-9E7D-359FCA1368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entory Controls</a:t>
            </a:r>
            <a:endParaRPr b="1" lang="en-US" sz="3900" spc="-1" strike="noStrike">
              <a:solidFill>
                <a:srgbClr val="330066"/>
              </a:solidFill>
              <a:latin typeface="Arial"/>
            </a:endParaRPr>
          </a:p>
        </p:txBody>
      </p:sp>
      <p:sp>
        <p:nvSpPr>
          <p:cNvPr id="20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equipment records maintained by the local district or consorti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quate internal controls to account for location and custod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ular physical inventor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urchased with Perkins funds clearly marked in recipients’ invent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kins-purchased equipment marked with a sticker, tag, or other unique identifi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TE no longer maintains equipment inventor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F66AEC9-A592-4292-84BB-7766B5BAC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fessional Development</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DMyLife trainings – advanced and begin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ddle School EDvent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s Crosswal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ing UBD uni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Based Learnin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D808E9F-600E-40D2-B02E-F6BA47E39F9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09-2010 Focus</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eer Clusters</a:t>
            </a:r>
            <a:endParaRPr b="0" lang="en-US" sz="25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way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of your current content to core standard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alignment to core content standards</a:t>
            </a:r>
            <a:endParaRPr b="0" lang="en-US" sz="22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ng program improvement to:</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ocal program approval application and local five-year plan,</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Core Indicators of Performance (accountability data),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budget requests, and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monitoring (Program Improvement Process - PIP)</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62AA244-A093-4972-8C0B-C2B60670865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nual Budget Request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Perkins director for important information about budget approvals, amendments, and other general budgeting question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quests related to program improvement, student achievement, and accountability.</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s follow the same format as requests.  Contact your Cluster Specialist first then work with your consortium director to add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67E54E-1A6E-4E51-AF7B-8DF2720B49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Visits</a:t>
            </a:r>
            <a:endParaRPr b="1" lang="en-US" sz="3500" spc="-1" strike="noStrike">
              <a:solidFill>
                <a:srgbClr val="330066"/>
              </a:solidFill>
              <a:latin typeface="Arial"/>
            </a:endParaRPr>
          </a:p>
        </p:txBody>
      </p:sp>
      <p:sp>
        <p:nvSpPr>
          <p:cNvPr id="166" name="PlaceHolder 2"/>
          <p:cNvSpPr>
            <a:spLocks noGrp="1"/>
          </p:cNvSpPr>
          <p:nvPr>
            <p:ph/>
          </p:nvPr>
        </p:nvSpPr>
        <p:spPr>
          <a:xfrm>
            <a:off x="457200" y="2013120"/>
            <a:ext cx="8229600" cy="41176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gra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each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ients of state/federal fund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ation from local CTE progr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Accountability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E16A50A-05C7-41C7-BE5B-5BA1FAD4AD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80520"/>
            <a:ext cx="838224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iteria for Determining On-site Reviews</a:t>
            </a:r>
            <a:endParaRPr b="1" lang="en-US" sz="3500" spc="-1" strike="noStrike">
              <a:solidFill>
                <a:srgbClr val="330066"/>
              </a:solidFill>
              <a:latin typeface="Arial"/>
            </a:endParaRPr>
          </a:p>
        </p:txBody>
      </p:sp>
      <p:sp>
        <p:nvSpPr>
          <p:cNvPr id="168" name="PlaceHolder 2"/>
          <p:cNvSpPr>
            <a:spLocks noGrp="1"/>
          </p:cNvSpPr>
          <p:nvPr>
            <p:ph/>
          </p:nvPr>
        </p:nvSpPr>
        <p:spPr>
          <a:xfrm>
            <a:off x="533520" y="2133720"/>
            <a:ext cx="8229600" cy="411480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ze, scope and quality of program</a:t>
            </a:r>
            <a:endParaRPr b="0" lang="en-US" sz="30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program indicators (Pages 6-8 of Instrument)</a:t>
            </a:r>
            <a:endParaRPr b="0" lang="en-US" sz="26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f Study</a:t>
            </a:r>
            <a:endParaRPr b="0" lang="en-US" sz="26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Results for Performance (Core Indicators)   </a:t>
            </a:r>
            <a:endParaRPr b="0" lang="en-US" sz="30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used for program improvement </a:t>
            </a:r>
            <a:endParaRPr b="0" lang="en-US" sz="3000" spc="-1" strike="noStrike">
              <a:solidFill>
                <a:srgbClr val="000000"/>
              </a:solidFill>
              <a:latin typeface="Arial"/>
            </a:endParaRPr>
          </a:p>
          <a:p>
            <a:pPr lvl="1" marL="12715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97DFFDA-FCDD-4C32-81F2-3BB7D415AE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80520"/>
            <a:ext cx="73915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Improvement Progress Report</a:t>
            </a:r>
            <a:endParaRPr b="1" lang="en-US" sz="3500" spc="-1" strike="noStrike">
              <a:solidFill>
                <a:srgbClr val="330066"/>
              </a:solidFill>
              <a:latin typeface="Arial"/>
            </a:endParaRPr>
          </a:p>
        </p:txBody>
      </p:sp>
      <p:sp>
        <p:nvSpPr>
          <p:cNvPr id="170"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e December 1</a:t>
            </a:r>
            <a:r>
              <a:rPr b="0" lang="en-US" sz="2100" spc="-1" strike="noStrike" baseline="30000">
                <a:solidFill>
                  <a:srgbClr val="000000"/>
                </a:solidFill>
                <a:latin typeface="Arial"/>
              </a:rPr>
              <a:t>st</a:t>
            </a:r>
            <a:r>
              <a:rPr b="0" lang="en-US" sz="2100" spc="-1" strike="noStrike">
                <a:solidFill>
                  <a:srgbClr val="000000"/>
                </a:solidFill>
                <a:latin typeface="Arial"/>
              </a:rPr>
              <a:t>  </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 Data</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Update Goals</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sed on 7 key areas of Program Improvement</a:t>
            </a:r>
            <a:endParaRPr b="0" lang="en-US" sz="21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engaged</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orous coursework</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working cooperativel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involved in career guidance</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ment enhances student learning</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istic program improvement plan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167B47D-2244-4388-B60B-47D8F58A44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all students were enter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ntrators – students with 2 credits in a program</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foundational credits count towards 2 unit statu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1 unit of Capstone credit counts towards 2 unit statu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academic credit counts towards 2 unit statu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06BED50-EC8D-4362-9694-A9C18B2CCC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533520" y="1295280"/>
            <a:ext cx="7772400" cy="8556840"/>
            <a:chOff x="533520" y="1295280"/>
            <a:chExt cx="7772400" cy="8556840"/>
          </a:xfrm>
        </p:grpSpPr>
        <p:sp>
          <p:nvSpPr>
            <p:cNvPr id="174" name=""/>
            <p:cNvSpPr/>
            <p:nvPr/>
          </p:nvSpPr>
          <p:spPr>
            <a:xfrm>
              <a:off x="1067400" y="1295280"/>
              <a:ext cx="6764040" cy="126828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Approved Progra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Tahoma"/>
                </a:rPr>
                <a:t>Two Unit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1304640" y="3047760"/>
              <a:ext cx="617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46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3766320"/>
              <a:ext cx="1542600" cy="75744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Foundational CTE</a:t>
              </a:r>
              <a:endParaRPr b="0" lang="en-US" sz="1500" spc="-1" strike="noStrike">
                <a:solidFill>
                  <a:srgbClr val="000000"/>
                </a:solidFill>
                <a:latin typeface="Arial"/>
              </a:endParaRPr>
            </a:p>
          </p:txBody>
        </p:sp>
        <p:sp>
          <p:nvSpPr>
            <p:cNvPr id="178" name=""/>
            <p:cNvSpPr/>
            <p:nvPr/>
          </p:nvSpPr>
          <p:spPr>
            <a:xfrm>
              <a:off x="5457960" y="3766320"/>
              <a:ext cx="13050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cademic</a:t>
              </a:r>
              <a:endParaRPr b="0" lang="en-US" sz="1800" spc="-1" strike="noStrike">
                <a:solidFill>
                  <a:srgbClr val="000000"/>
                </a:solidFill>
                <a:latin typeface="Arial"/>
              </a:endParaRPr>
            </a:p>
          </p:txBody>
        </p:sp>
        <p:sp>
          <p:nvSpPr>
            <p:cNvPr id="179" name=""/>
            <p:cNvSpPr/>
            <p:nvPr/>
          </p:nvSpPr>
          <p:spPr>
            <a:xfrm>
              <a:off x="6882120" y="376632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apstone</a:t>
              </a:r>
              <a:endParaRPr b="0" lang="en-US" sz="1800" spc="-1" strike="noStrike">
                <a:solidFill>
                  <a:srgbClr val="000000"/>
                </a:solidFill>
                <a:latin typeface="Arial"/>
              </a:endParaRPr>
            </a:p>
          </p:txBody>
        </p:sp>
        <p:sp>
          <p:nvSpPr>
            <p:cNvPr id="180" name=""/>
            <p:cNvSpPr/>
            <p:nvPr/>
          </p:nvSpPr>
          <p:spPr>
            <a:xfrm>
              <a:off x="3707280" y="3774600"/>
              <a:ext cx="1648440" cy="57636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Career Cluster Pathway</a:t>
              </a:r>
              <a:endParaRPr b="0" lang="en-US" sz="1500" spc="-1" strike="noStrike">
                <a:solidFill>
                  <a:srgbClr val="000000"/>
                </a:solidFill>
                <a:latin typeface="Arial"/>
              </a:endParaRPr>
            </a:p>
          </p:txBody>
        </p:sp>
        <p:sp>
          <p:nvSpPr>
            <p:cNvPr id="181" name=""/>
            <p:cNvSpPr/>
            <p:nvPr/>
          </p:nvSpPr>
          <p:spPr>
            <a:xfrm>
              <a:off x="2253960" y="3766320"/>
              <a:ext cx="1305000" cy="58464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Career Cluster</a:t>
              </a:r>
              <a:endParaRPr b="0" lang="en-US" sz="1600" spc="-1" strike="noStrike">
                <a:solidFill>
                  <a:srgbClr val="000000"/>
                </a:solidFill>
                <a:latin typeface="Arial"/>
              </a:endParaRPr>
            </a:p>
          </p:txBody>
        </p:sp>
        <p:sp>
          <p:nvSpPr>
            <p:cNvPr id="182" name=""/>
            <p:cNvSpPr/>
            <p:nvPr/>
          </p:nvSpPr>
          <p:spPr>
            <a:xfrm>
              <a:off x="29660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49320" y="3025080"/>
              <a:ext cx="0" cy="74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512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7540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22440" y="479304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87" name=""/>
            <p:cNvSpPr/>
            <p:nvPr/>
          </p:nvSpPr>
          <p:spPr>
            <a:xfrm flipH="1">
              <a:off x="1304640" y="4524120"/>
              <a:ext cx="5760" cy="26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28800" y="4783680"/>
              <a:ext cx="2135880" cy="31680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1 – 2+ Credits</a:t>
              </a:r>
              <a:endParaRPr b="0" lang="en-US" sz="1800" spc="-1" strike="noStrike">
                <a:solidFill>
                  <a:srgbClr val="000000"/>
                </a:solidFill>
                <a:latin typeface="Arial"/>
              </a:endParaRPr>
            </a:p>
          </p:txBody>
        </p:sp>
        <p:sp>
          <p:nvSpPr>
            <p:cNvPr id="189" name=""/>
            <p:cNvSpPr/>
            <p:nvPr/>
          </p:nvSpPr>
          <p:spPr>
            <a:xfrm>
              <a:off x="5326560" y="4793040"/>
              <a:ext cx="131796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90" name=""/>
            <p:cNvSpPr/>
            <p:nvPr/>
          </p:nvSpPr>
          <p:spPr>
            <a:xfrm>
              <a:off x="605124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4932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8888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63320" y="4793040"/>
              <a:ext cx="15426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5 - 1 Credit</a:t>
              </a:r>
              <a:endParaRPr b="0" lang="en-US" sz="1600" spc="-1" strike="noStrike">
                <a:solidFill>
                  <a:srgbClr val="000000"/>
                </a:solidFill>
                <a:latin typeface="Arial"/>
              </a:endParaRPr>
            </a:p>
          </p:txBody>
        </p:sp>
        <p:sp>
          <p:nvSpPr>
            <p:cNvPr id="194" name=""/>
            <p:cNvSpPr/>
            <p:nvPr/>
          </p:nvSpPr>
          <p:spPr>
            <a:xfrm>
              <a:off x="748152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760" y="5331600"/>
              <a:ext cx="1554480" cy="28800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62760" y="5850360"/>
              <a:ext cx="7513560" cy="400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Arial"/>
              </a:endParaRPr>
            </a:p>
          </p:txBody>
        </p:sp>
        <p:sp>
          <p:nvSpPr>
            <p:cNvPr id="197" name=""/>
            <p:cNvSpPr/>
            <p:nvPr/>
          </p:nvSpPr>
          <p:spPr>
            <a:xfrm>
              <a:off x="4549320" y="2563560"/>
              <a:ext cx="0" cy="46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ABBE44A-62EB-411B-971F-E13B7B994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 http://doe.sd.gov/octe/data/</a:t>
            </a:r>
            <a:endParaRPr b="1" lang="en-US" sz="3900" spc="-1" strike="noStrike">
              <a:solidFill>
                <a:srgbClr val="330066"/>
              </a:solidFill>
              <a:latin typeface="Arial"/>
            </a:endParaRPr>
          </a:p>
        </p:txBody>
      </p:sp>
      <p:graphicFrame>
        <p:nvGraphicFramePr>
          <p:cNvPr id="199" name=""/>
          <p:cNvGraphicFramePr/>
          <p:nvPr/>
        </p:nvGraphicFramePr>
        <p:xfrm>
          <a:off x="380880" y="1617840"/>
          <a:ext cx="8533080" cy="4762440"/>
        </p:xfrm>
        <a:graphic>
          <a:graphicData uri="http://schemas.openxmlformats.org/drawingml/2006/table">
            <a:tbl>
              <a:tblPr/>
              <a:tblGrid>
                <a:gridCol w="4267440"/>
                <a:gridCol w="2133360"/>
                <a:gridCol w="21322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untability Measur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d Level of Performance</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 Service Results</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6%</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6%</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Skil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4.4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ion &amp; Gradua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vailab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m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2.3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trad Participa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1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trad Comple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1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3%</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F9A1A28-D291-49D9-AC2A-1F56D97FC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8:06Z</dcterms:created>
  <dc:creator>depr14527</dc:creator>
  <dc:description/>
  <dc:language>en-US</dc:language>
  <cp:lastModifiedBy>depr14681</cp:lastModifiedBy>
  <dcterms:modified xsi:type="dcterms:W3CDTF">2009-08-01T22:51:49Z</dcterms:modified>
  <cp:revision>132</cp:revision>
  <dc:subject/>
  <dc:title>Slide 1</dc:title>
</cp:coreProperties>
</file>